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A9A-71E0-4E72-9448-E799ED07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3B9-7D7F-4A3D-9995-221E04DC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EC2-5F76-4F85-ADFF-B1054FC5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CD8-7A97-42AA-B528-1DAFEB36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F35-4D99-4526-85AD-F91BF864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F22-F257-42CD-83A6-49BAF7D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B37-893F-4CE3-8A6D-5A204940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C6F-2060-4633-9218-DD9A53F9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503-1769-4EA2-B1B8-337050B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0FF-8C8B-4B83-8136-5CA969E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5AD-38A6-4DDA-BC61-8B4996D5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617-1913-4350-851F-2EB9563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467-B679-45A4-95FC-F1892318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284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Автор: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ученица 8 «В» класса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МБОУ гимназии № 4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Холманская Екатери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а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Руководитель: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Нечитайлова Римма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692280"/>
            <a:ext cx="864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5ff"/>
                </a:solidFill>
                <a:latin typeface="Arial"/>
              </a:rPr>
              <a:t>Несохранившиеся здания и памятники Москвы и 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616572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. Новосибирск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амятник Александру 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24000" y="907920"/>
            <a:ext cx="5112000" cy="5761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Памятник великому князю Сергею Александрови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96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71640" y="1413000"/>
            <a:ext cx="3745080" cy="5256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амятник-бюст Александру 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60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амятник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веден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4000" y="907920"/>
            <a:ext cx="5112000" cy="5761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Успенский собор на Сенной площ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96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ергиевский со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0" y="907920"/>
            <a:ext cx="5112000" cy="5761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рам Христа Спасител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96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обор Спаса на Бо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5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Чудов монасты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ознесенский монастыр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Афанасьевский монасты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32000" y="1197000"/>
            <a:ext cx="6480000" cy="49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алый Николаевский д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24000" y="907920"/>
            <a:ext cx="5112000" cy="5761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Церковь Благовещения на Житном дв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24000" y="1096920"/>
            <a:ext cx="5112000" cy="5572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Церковь святых Константина и Еле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34:54Z</dcterms:created>
  <dc:creator>ккк</dc:creator>
  <dc:description/>
  <dc:language>en-US</dc:language>
  <cp:lastModifiedBy>Кравцова</cp:lastModifiedBy>
  <dcterms:modified xsi:type="dcterms:W3CDTF">2011-01-28T07:47:30Z</dcterms:modified>
  <cp:revision>5</cp:revision>
  <dc:subject/>
  <dc:title>Презентация  по русскому языку ученицы 8 «В» класса МБОУ гимназии № 4 Холманской Екатерины</dc:title>
</cp:coreProperties>
</file>